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2E4E-7DB0-410C-BCE9-B9C61A96C1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42D8-7AE8-4B24-9FE8-0D578DE2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C96F-76A7-4345-AD1E-D4D6F89C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4FE1E-776D-470D-8217-B25159792E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12BE-CEC7-4E49-9AEB-E88FDD77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C96F-C366-4958-B70F-2BA76D16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B4662-D334-438B-BF72-0F530D91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6C6D5-E53C-4D9D-8D99-BFF8A299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7B839-F1F5-43AF-A740-B3ACAA7B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2D96-A034-4E01-84B5-230B41EF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C1D01-98BD-48CD-BCC0-6A195B6A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BC0E-EBE1-47A4-9229-3282AC29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F830-6298-49AA-812D-70251495BE3B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06028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Hawk M81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Urban Active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S25/M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3502080"/>
            <a:ext cx="83185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/ Christopher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tje H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Markus A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640" y="5305320"/>
            <a:ext cx="4572000" cy="122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3th Jun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DD58B-2144-4A33-BD19-00609EEE67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00720" y="836640"/>
            <a:ext cx="4467240" cy="2299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irect R&amp;D  3’23€ (current) vs. 2’97€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R&amp;D cost deviation of 9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K deviation  2% (1,23€) (because of volume and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C decreas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25/M2 19.06.06 (current) vs.12.06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11.08.06 vs. DS 11.08.06 (M1 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3213000"/>
            <a:ext cx="4467240" cy="21754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nor risk seen on production capacity vs. demand (in connection with Philippe overall capacity 210k/month;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wk orders: Oct 110k/Nov. 114k; Philippe: Oct. 80k/Nov. 75k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/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5445000"/>
            <a:ext cx="4467240" cy="8139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OM            75,4€ (current, incl. 2% variant adder)  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vs. 72,6€ (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704" t="18238" r="60627" b="34527"/>
          <a:stretch/>
        </p:blipFill>
        <p:spPr>
          <a:xfrm>
            <a:off x="250920" y="1125360"/>
            <a:ext cx="410508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7993-2CE3-471D-8CE1-E1B6C75E45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56000" y="765000"/>
            <a:ext cx="4464000" cy="24894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0,5 dB decrease on edges in PCS b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 timeline; partial de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ill poor cosmetic quality of TPE mater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lue/white variant samples very late due to late design fixing and delay in 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3384720"/>
            <a:ext cx="4467240" cy="24987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 9% (5,4%SW+3,6%HW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: time schedule for S3 because less than 5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f B2 Test run will be finished until start of Pilot (07.07.0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am declared M2/S25 on 19.06.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704" t="18238" r="60627" b="34512"/>
          <a:stretch/>
        </p:blipFill>
        <p:spPr>
          <a:xfrm>
            <a:off x="250920" y="119700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B8552-66BB-49BF-8F02-8425F30679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HAWK status at S25/M2</a:t>
            </a:r>
            <a:br>
              <a:rPr sz="2000"/>
            </a:b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oduct House Costs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469800" y="1092240"/>
            <a:ext cx="8356680" cy="5156280"/>
          </a:xfrm>
          <a:prstGeom prst="rect">
            <a:avLst/>
          </a:prstGeom>
          <a:noFill/>
          <a:ln w="2232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9800" y="1101600"/>
            <a:ext cx="8332920" cy="513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6581-0D35-411B-94A7-60F26D4D49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0B6D1-FB15-4EBF-9842-F07D1545D0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4014-17E7-41B1-9372-D0484F99FF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03T14:28:45Z</dcterms:modified>
  <cp:revision>144</cp:revision>
  <dc:subject/>
  <dc:title>PowerPoint 簡報</dc:title>
</cp:coreProperties>
</file>